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277-7BEA-413F-8248-D499CAD0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C49-CBD8-4691-8A42-EA21F470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51C-C678-4330-83BD-A9B103E3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0E8-0A9A-4BB8-B057-A33A01E2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4658-C6CE-452B-AF56-1B6A9205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52F9-3785-433A-B3B3-2044CB7D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EF9E-1D2B-4A24-9C70-71185DD0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F1AF-B20C-4DD3-BB33-5C48F2BE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34B1-FA23-4DC2-AC04-9B704CD4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667F-C362-4A6F-A3EA-CCF8FACA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5755-D84E-43B8-AE9B-D18022E8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9FB-DE2E-4ADD-A769-15C2D2F5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26D8-0118-46EE-9116-D1629AD8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79BF-C338-47CB-B75E-9C77E0F3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2487-E18B-4538-964B-CE29D030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5F02-DB92-43D0-A5AC-E9D117B1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A4E6-107E-4502-9873-32D25CA2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3E3-A002-4B40-A7D8-14D9BFD7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A3C-60AB-4EF1-8433-46BCF98D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CE9-8266-43A9-8E71-31B00549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8FB-6A3B-4E47-B468-C2BB9BEC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537-0F4C-4728-9873-BB5EF154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A25-AD58-4A3A-80D7-6D3572A7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6BB-41B0-4554-8A4D-1B56C8AF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6EC0-2189-46A5-80F0-DAE7D3B479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3A47-E238-4552-9500-8D2CDA79C6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71640" y="692280"/>
            <a:ext cx="770400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erche l’intru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courts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gris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mi-longs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ong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pas mal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nul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super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trent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Rachid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Yann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Samuel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Maroc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jouer au tennis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jouer au volleyball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jouer au golf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jouer au cricket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Franc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Gr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èce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L’Australie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L’Angleterre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bleu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roug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vert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jaune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travailler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voyager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natation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dormir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ir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lectur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s livres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crayon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s vacances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bouch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jamb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s doigts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pain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un sandwich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lait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une baguette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lapin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cheval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hamster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chocolat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’eau 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vin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bi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ère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le cidre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’oiseau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chat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chien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cheval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mardi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jeudi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jaun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dimanch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grand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roug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petit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gro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gomm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vill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campagn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montagn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maison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ferm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mer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’appartement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marrant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gourmand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bavard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fris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é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Juliett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Pierr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C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éline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Magali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roux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yeux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ch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âtains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blond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5:14:47Z</dcterms:created>
  <dc:creator> </dc:creator>
  <dc:description/>
  <dc:language>en-US</dc:language>
  <cp:lastModifiedBy> </cp:lastModifiedBy>
  <dcterms:modified xsi:type="dcterms:W3CDTF">2004-09-18T09:44:33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